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B55-CE0E-4B66-88F1-3E3905B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5BB-5DB3-456E-A58D-6261341F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07B-982D-41D7-B7F9-8E0F40EE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91E-BA4F-4698-80F5-069B748A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444-0010-451C-948C-617EF867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D94-076C-47FF-8169-EEF34D28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2E4-3401-4A16-B197-18DF5E74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D25-770A-4A99-8F5E-DFC36F25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6B7-C9AE-467D-BEA8-C4DDBDC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5E9-25F3-4687-AFC7-210C297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599-642E-443B-A7C4-ECB92080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216-942D-4D65-A78B-864DA41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68C-DD7C-4CDB-8E88-02EB1B02EE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02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5080" y="14400"/>
            <a:ext cx="63338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7480" y="480240"/>
            <a:ext cx="451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: INTRODUCCIÓN: LOS VALORES. LA VOZ DEL CONS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7840" y="793080"/>
            <a:ext cx="47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: EL AGITADO MATRIMONIO ENTRE NEGOCIOS Y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040" y="110736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: LA CUESTIÓN DEL “99%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6760" y="1420200"/>
            <a:ext cx="451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: LA CUESTIÓN DE LA “RSE”. LUCES Y SOMBRAS 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SPONSABILIDAD SOCIAL EMPRES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7480" y="1917000"/>
            <a:ext cx="780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5: LA CUESTIÓN  DEL “EFECTO DERRAME”, EL ENCUENTRO ENTRE LO PÚBLICO Y LO PRIVADO Y 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TRO DERR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760" y="2412360"/>
            <a:ext cx="40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6: LA CUESTIÓN DE LAS DOS “MANOS INVISIBLE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7480" y="2726640"/>
            <a:ext cx="23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7: LA CUESTIÓN DE LA 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760" y="3039480"/>
            <a:ext cx="30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8: LA ERA DE LAS CONTRAD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7840" y="3353760"/>
            <a:ext cx="28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9: EL SUB-SISTEMA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00" y="3666240"/>
            <a:ext cx="27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 EL SUB-SISTEMA FINANCI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3980520"/>
            <a:ext cx="25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1: EL SUB-SISTEMA JURÍD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7120" y="4293360"/>
            <a:ext cx="626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2: EL SUB-SISTEMA CULTURAL Y EL RE-DESCUBRIMIENTO DE LA NATURAL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040" y="4607640"/>
            <a:ext cx="37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3: CONVERSACIÓN SOBRE LA CRISIS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120" y="4920480"/>
            <a:ext cx="76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4: ¿ES SUSTENTABLE EL DESARROLLO SUSTENTABLE? LOS NUEVOS LÍMITES D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480" y="523476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5:¿CUÁL ES LA SALID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7840" y="5547600"/>
            <a:ext cx="92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PÍLOG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7120" y="58618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JUR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98480" y="1162440"/>
            <a:ext cx="76262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o, …………………………………., que acabo de cursar la asignatura PLANEAMIENTO (o denominación similar) de la Maestría en Gestión Empresaria (o distinto nivel universitario o denominación similar) me comprometo ante mis hijos (los que tengo y/o los que tendré) a hacer prevalecer los valores éticos en todo Plan en el cual interviniere. En consecuencia, no propondré, diseñaré, aprobaré ni implementaré planes que produzcan daño a las personas y/o a la naturaleza. Cuando parezca que dichos daños sean inevitables, agotaré los esfuerzos para que no lo sean y, de confirmarse, plantearé la opción de no encarar tal actividad. Este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Juram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 es para entregar a nadie más que a mí mismo y no tiene que ver ni con la aprobación ni con la calificación de la asignatura mencionada. Lo guardaré junto con mis documentos pers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20:25:32Z</dcterms:created>
  <dc:creator>Enrique</dc:creator>
  <dc:description/>
  <dc:language>en-US</dc:language>
  <cp:lastModifiedBy>Hernán Castillejo</cp:lastModifiedBy>
  <dcterms:modified xsi:type="dcterms:W3CDTF">2013-08-15T22:25:31Z</dcterms:modified>
  <cp:revision>3</cp:revision>
  <dc:subject/>
  <dc:title>Diapositiva 1</dc:title>
</cp:coreProperties>
</file>